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6.gif" ContentType="image/gif"/>
  <Override PartName="/ppt/media/image55.gif" ContentType="image/gif"/>
  <Override PartName="/ppt/media/image46.jpeg" ContentType="image/jpeg"/>
  <Override PartName="/ppt/media/image53.gif" ContentType="image/gif"/>
  <Override PartName="/ppt/media/image52.gif" ContentType="image/gif"/>
  <Override PartName="/ppt/media/image51.gif" ContentType="image/gif"/>
  <Override PartName="/ppt/media/image49.gif" ContentType="image/gif"/>
  <Override PartName="/ppt/media/image45.gif" ContentType="image/gif"/>
  <Override PartName="/ppt/media/image43.gif" ContentType="image/gif"/>
  <Override PartName="/ppt/media/image44.gif" ContentType="image/gif"/>
  <Override PartName="/ppt/media/image34.jpeg" ContentType="image/jpeg"/>
  <Override PartName="/ppt/media/image40.gif" ContentType="image/gif"/>
  <Override PartName="/ppt/media/image33.png" ContentType="image/png"/>
  <Override PartName="/ppt/media/image30.gif" ContentType="image/gif"/>
  <Override PartName="/ppt/media/image31.gif" ContentType="image/gif"/>
  <Override PartName="/ppt/media/image13.gif" ContentType="image/gif"/>
  <Override PartName="/ppt/media/image39.gif" ContentType="image/gif"/>
  <Override PartName="/ppt/media/image9.gif" ContentType="image/gif"/>
  <Override PartName="/ppt/media/image86.gif" ContentType="image/gif"/>
  <Override PartName="/ppt/media/image16.jpeg" ContentType="image/jpeg"/>
  <Override PartName="/ppt/media/image38.gif" ContentType="image/gif"/>
  <Override PartName="/ppt/media/image8.gif" ContentType="image/gif"/>
  <Override PartName="/ppt/media/image85.gif" ContentType="image/gif"/>
  <Override PartName="/ppt/media/image37.gif" ContentType="image/gif"/>
  <Override PartName="/ppt/media/image7.gif" ContentType="image/gif"/>
  <Override PartName="/ppt/media/image19.gif" ContentType="image/gif"/>
  <Override PartName="/ppt/media/image84.gif" ContentType="image/gif"/>
  <Override PartName="/ppt/media/image48.gif" ContentType="image/gif"/>
  <Override PartName="/ppt/media/image11.gif" ContentType="image/gif"/>
  <Override PartName="/ppt/media/image29.gif" ContentType="image/gif"/>
  <Override PartName="/ppt/media/image94.gif" ContentType="image/gif"/>
  <Override PartName="/ppt/media/image47.gif" ContentType="image/gif"/>
  <Override PartName="/ppt/media/image10.gif" ContentType="image/gif"/>
  <Override PartName="/ppt/media/image41.gif" ContentType="image/gif"/>
  <Override PartName="/ppt/media/image12.jpeg" ContentType="image/jpeg"/>
  <Override PartName="/ppt/media/image77.gif" ContentType="image/gif"/>
  <Override PartName="/ppt/media/image20.gif" ContentType="image/gif"/>
  <Override PartName="/ppt/media/image57.gif" ContentType="image/gif"/>
  <Override PartName="/ppt/media/image22.gif" ContentType="image/gif"/>
  <Override PartName="/ppt/media/image63.gif" ContentType="image/gif"/>
  <Override PartName="/ppt/media/image64.gif" ContentType="image/gif"/>
  <Override PartName="/ppt/media/image65.gif" ContentType="image/gif"/>
  <Override PartName="/ppt/media/image66.gif" ContentType="image/gif"/>
  <Override PartName="/ppt/media/image67.gif" ContentType="image/gif"/>
  <Override PartName="/ppt/media/image24.gif" ContentType="image/gif"/>
  <Override PartName="/ppt/media/image61.gif" ContentType="image/gif"/>
  <Override PartName="/ppt/media/image96.gif" ContentType="image/gif"/>
  <Override PartName="/ppt/media/image50.jpeg" ContentType="image/jpeg"/>
  <Override PartName="/ppt/media/image72.gif" ContentType="image/gif"/>
  <Override PartName="/ppt/media/image23.gif" ContentType="image/gif"/>
  <Override PartName="/ppt/media/image60.gif" ContentType="image/gif"/>
  <Override PartName="/ppt/media/image70.gif" ContentType="image/gif"/>
  <Override PartName="/ppt/media/image58.jpeg" ContentType="image/jpeg"/>
  <Override PartName="/ppt/media/image95.gif" ContentType="image/gif"/>
  <Override PartName="/ppt/media/image69.gif" ContentType="image/gif"/>
  <Override PartName="/ppt/media/image32.gif" ContentType="image/gif"/>
  <Override PartName="/ppt/media/image71.gif" ContentType="image/gif"/>
  <Override PartName="/ppt/media/image76.gif" ContentType="image/gif"/>
  <Override PartName="/ppt/media/image68.jpeg" ContentType="image/jpeg"/>
  <Override PartName="/ppt/media/image75.gif" ContentType="image/gif"/>
  <Override PartName="/ppt/media/image93.gif" ContentType="image/gif"/>
  <Override PartName="/ppt/media/image2.gif" ContentType="image/gif"/>
  <Override PartName="/ppt/media/image14.gif" ContentType="image/gif"/>
  <Override PartName="/ppt/media/image89.gif" ContentType="image/gif"/>
  <Override PartName="/ppt/media/image88.gif" ContentType="image/gif"/>
  <Override PartName="/ppt/media/image87.gif" ContentType="image/gif"/>
  <Override PartName="/ppt/media/image79.gif" ContentType="image/gif"/>
  <Override PartName="/ppt/media/image78.gif" ContentType="image/gif"/>
  <Override PartName="/ppt/media/image74.gif" ContentType="image/gif"/>
  <Override PartName="/ppt/media/image73.gif" ContentType="image/gif"/>
  <Override PartName="/ppt/media/image62.gif" ContentType="image/gif"/>
  <Override PartName="/ppt/media/image21.jpeg" ContentType="image/jpeg"/>
  <Override PartName="/ppt/media/image36.gif" ContentType="image/gif"/>
  <Override PartName="/ppt/media/image18.gif" ContentType="image/gif"/>
  <Override PartName="/ppt/media/image6.gif" ContentType="image/gif"/>
  <Override PartName="/ppt/media/image83.gif" ContentType="image/gif"/>
  <Override PartName="/ppt/media/image17.gif" ContentType="image/gif"/>
  <Override PartName="/ppt/media/image82.gif" ContentType="image/gif"/>
  <Override PartName="/ppt/media/image5.gif" ContentType="image/gif"/>
  <Override PartName="/ppt/media/image35.gif" ContentType="image/gif"/>
  <Override PartName="/ppt/media/image28.png" ContentType="image/png"/>
  <Override PartName="/ppt/media/image90.gif" ContentType="image/gif"/>
  <Override PartName="/ppt/media/image25.gif" ContentType="image/gif"/>
  <Override PartName="/ppt/media/image91.gif" ContentType="image/gif"/>
  <Override PartName="/ppt/media/image26.gif" ContentType="image/gif"/>
  <Override PartName="/ppt/media/image42.jpeg" ContentType="image/jpeg"/>
  <Override PartName="/ppt/media/image80.gif" ContentType="image/gif"/>
  <Override PartName="/ppt/media/image15.gif" ContentType="image/gif"/>
  <Override PartName="/ppt/media/image3.gif" ContentType="image/gif"/>
  <Override PartName="/ppt/media/image92.gif" ContentType="image/gif"/>
  <Override PartName="/ppt/media/image27.gif" ContentType="image/gif"/>
  <Override PartName="/ppt/media/image1.jpeg" ContentType="image/jpeg"/>
  <Override PartName="/ppt/media/image54.gif" ContentType="image/gif"/>
  <Override PartName="/ppt/media/image81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2C0-15C9-4E4E-B30D-5F467680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28B-1ECE-4478-8992-99864AE2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8FC-61B8-4A50-AE16-1B2A10B3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46E-431B-4889-ADCA-872ABAA7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16D-4758-44F4-B724-812D538E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958-7CB5-4448-8760-27238F04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B9F-A7F4-4AB3-8D6D-E207ECEA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D376-2E8C-4EA6-8510-30620B27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447-CE75-44DD-A869-95FC0BDC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309-D5B1-4E25-AD46-F87E044D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21F-DE05-4E3F-A6AE-FF1D8EA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DA67-AA79-4C21-AFA7-3DEFDC5D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8B48-6EC9-4DA8-A81B-39454180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image" Target="../media/image11.gif"/><Relationship Id="rId1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7.gif"/><Relationship Id="rId7" Type="http://schemas.openxmlformats.org/officeDocument/2006/relationships/image" Target="../media/image48.gif"/><Relationship Id="rId8" Type="http://schemas.openxmlformats.org/officeDocument/2006/relationships/image" Target="../media/image49.gif"/><Relationship Id="rId9" Type="http://schemas.openxmlformats.org/officeDocument/2006/relationships/slide" Target="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gif"/><Relationship Id="rId4" Type="http://schemas.openxmlformats.org/officeDocument/2006/relationships/image" Target="../media/image52.gif"/><Relationship Id="rId5" Type="http://schemas.openxmlformats.org/officeDocument/2006/relationships/image" Target="../media/image53.gif"/><Relationship Id="rId6" Type="http://schemas.openxmlformats.org/officeDocument/2006/relationships/image" Target="../media/image54.gif"/><Relationship Id="rId7" Type="http://schemas.openxmlformats.org/officeDocument/2006/relationships/image" Target="../media/image55.gif"/><Relationship Id="rId8" Type="http://schemas.openxmlformats.org/officeDocument/2006/relationships/image" Target="../media/image56.gif"/><Relationship Id="rId9" Type="http://schemas.openxmlformats.org/officeDocument/2006/relationships/image" Target="../media/image57.gif"/><Relationship Id="rId10" Type="http://schemas.openxmlformats.org/officeDocument/2006/relationships/image" Target="../media/image51.gif"/><Relationship Id="rId11" Type="http://schemas.openxmlformats.org/officeDocument/2006/relationships/image" Target="../media/image58.jpeg"/><Relationship Id="rId12" Type="http://schemas.openxmlformats.org/officeDocument/2006/relationships/image" Target="../media/image58.jpeg"/><Relationship Id="rId13" Type="http://schemas.openxmlformats.org/officeDocument/2006/relationships/image" Target="../media/image58.jpeg"/><Relationship Id="rId14" Type="http://schemas.openxmlformats.org/officeDocument/2006/relationships/image" Target="../media/image58.jpeg"/><Relationship Id="rId15" Type="http://schemas.openxmlformats.org/officeDocument/2006/relationships/image" Target="../media/image58.jpeg"/><Relationship Id="rId16" Type="http://schemas.openxmlformats.org/officeDocument/2006/relationships/image" Target="../media/image58.jpeg"/><Relationship Id="rId17" Type="http://schemas.openxmlformats.org/officeDocument/2006/relationships/image" Target="../media/image58.jpeg"/><Relationship Id="rId18" Type="http://schemas.openxmlformats.org/officeDocument/2006/relationships/image" Target="../media/image58.jpeg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60.gif"/><Relationship Id="rId5" Type="http://schemas.openxmlformats.org/officeDocument/2006/relationships/slide" Target=""/><Relationship Id="rId6" Type="http://schemas.openxmlformats.org/officeDocument/2006/relationships/image" Target="../media/image61.gif"/><Relationship Id="rId7" Type="http://schemas.openxmlformats.org/officeDocument/2006/relationships/image" Target="../media/image62.gif"/><Relationship Id="rId8" Type="http://schemas.openxmlformats.org/officeDocument/2006/relationships/image" Target="../media/image63.gi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gif"/><Relationship Id="rId3" Type="http://schemas.openxmlformats.org/officeDocument/2006/relationships/image" Target="../media/image65.gif"/><Relationship Id="rId4" Type="http://schemas.openxmlformats.org/officeDocument/2006/relationships/image" Target="../media/image66.gif"/><Relationship Id="rId5" Type="http://schemas.openxmlformats.org/officeDocument/2006/relationships/image" Target="../media/image6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image" Target="../media/image69.gif"/><Relationship Id="rId4" Type="http://schemas.openxmlformats.org/officeDocument/2006/relationships/image" Target="../media/image70.gif"/><Relationship Id="rId5" Type="http://schemas.openxmlformats.org/officeDocument/2006/relationships/image" Target="../media/image71.gif"/><Relationship Id="rId6" Type="http://schemas.openxmlformats.org/officeDocument/2006/relationships/image" Target="../media/image70.gif"/><Relationship Id="rId7" Type="http://schemas.openxmlformats.org/officeDocument/2006/relationships/image" Target="../media/image69.gif"/><Relationship Id="rId8" Type="http://schemas.openxmlformats.org/officeDocument/2006/relationships/image" Target="../media/image69.gif"/><Relationship Id="rId9" Type="http://schemas.openxmlformats.org/officeDocument/2006/relationships/image" Target="../media/image71.gif"/><Relationship Id="rId10" Type="http://schemas.openxmlformats.org/officeDocument/2006/relationships/image" Target="../media/image70.gif"/><Relationship Id="rId11" Type="http://schemas.openxmlformats.org/officeDocument/2006/relationships/image" Target="../media/image70.gif"/><Relationship Id="rId12" Type="http://schemas.openxmlformats.org/officeDocument/2006/relationships/slide" Target=""/><Relationship Id="rId13" Type="http://schemas.openxmlformats.org/officeDocument/2006/relationships/hyperlink" Target="file:///tmp/home/.config/libreoffice/4/user/gallery/chimes.wav" TargetMode="External"/><Relationship Id="rId14" Type="http://schemas.openxmlformats.org/officeDocument/2006/relationships/hyperlink" Target="file:///usr/lib/libreoffice/share/gallery/sounds/applause.wav" TargetMode="Externa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gif"/><Relationship Id="rId3" Type="http://schemas.openxmlformats.org/officeDocument/2006/relationships/image" Target="../media/image73.gif"/><Relationship Id="rId4" Type="http://schemas.openxmlformats.org/officeDocument/2006/relationships/slide" Target=""/><Relationship Id="rId5" Type="http://schemas.openxmlformats.org/officeDocument/2006/relationships/image" Target="../media/image74.gif"/><Relationship Id="rId6" Type="http://schemas.openxmlformats.org/officeDocument/2006/relationships/image" Target="../media/image75.gif"/><Relationship Id="rId7" Type="http://schemas.openxmlformats.org/officeDocument/2006/relationships/image" Target="../media/image76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gif"/><Relationship Id="rId3" Type="http://schemas.openxmlformats.org/officeDocument/2006/relationships/image" Target="../media/image78.gif"/><Relationship Id="rId4" Type="http://schemas.openxmlformats.org/officeDocument/2006/relationships/image" Target="../media/image79.gif"/><Relationship Id="rId5" Type="http://schemas.openxmlformats.org/officeDocument/2006/relationships/image" Target="../media/image80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gif"/><Relationship Id="rId3" Type="http://schemas.openxmlformats.org/officeDocument/2006/relationships/image" Target="../media/image82.gif"/><Relationship Id="rId4" Type="http://schemas.openxmlformats.org/officeDocument/2006/relationships/image" Target="../media/image83.gif"/><Relationship Id="rId5" Type="http://schemas.openxmlformats.org/officeDocument/2006/relationships/image" Target="../media/image84.gif"/><Relationship Id="rId6" Type="http://schemas.openxmlformats.org/officeDocument/2006/relationships/image" Target="../media/image85.gif"/><Relationship Id="rId7" Type="http://schemas.openxmlformats.org/officeDocument/2006/relationships/image" Target="../media/image86.gif"/><Relationship Id="rId8" Type="http://schemas.openxmlformats.org/officeDocument/2006/relationships/image" Target="../media/image87.gif"/><Relationship Id="rId9" Type="http://schemas.openxmlformats.org/officeDocument/2006/relationships/image" Target="../media/image83.gif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tmp/home/.config/libreoffice/4/user/gallery/chimes.wav" TargetMode="External"/><Relationship Id="rId12" Type="http://schemas.openxmlformats.org/officeDocument/2006/relationships/image" Target="../media/image88.gif"/><Relationship Id="rId13" Type="http://schemas.openxmlformats.org/officeDocument/2006/relationships/image" Target="../media/image89.gif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0.gif"/><Relationship Id="rId3" Type="http://schemas.openxmlformats.org/officeDocument/2006/relationships/image" Target="../media/image91.gif"/><Relationship Id="rId4" Type="http://schemas.openxmlformats.org/officeDocument/2006/relationships/image" Target="../media/image92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gif"/><Relationship Id="rId3" Type="http://schemas.openxmlformats.org/officeDocument/2006/relationships/image" Target="../media/image94.gif"/><Relationship Id="rId4" Type="http://schemas.openxmlformats.org/officeDocument/2006/relationships/image" Target="../media/image95.gif"/><Relationship Id="rId5" Type="http://schemas.openxmlformats.org/officeDocument/2006/relationships/image" Target="../media/image9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image" Target="../media/image24.gif"/><Relationship Id="rId6" Type="http://schemas.openxmlformats.org/officeDocument/2006/relationships/image" Target="../media/image25.gif"/><Relationship Id="rId7" Type="http://schemas.openxmlformats.org/officeDocument/2006/relationships/image" Target="../media/image26.gif"/><Relationship Id="rId8" Type="http://schemas.openxmlformats.org/officeDocument/2006/relationships/image" Target="../media/image27.gif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28.png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" Target="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image" Target="../media/image37.gif"/><Relationship Id="rId9" Type="http://schemas.openxmlformats.org/officeDocument/2006/relationships/image" Target="../media/image37.gif"/><Relationship Id="rId10" Type="http://schemas.openxmlformats.org/officeDocument/2006/relationships/image" Target="../media/image40.gif"/><Relationship Id="rId11" Type="http://schemas.openxmlformats.org/officeDocument/2006/relationships/image" Target="../media/image41.gif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2.jpeg"/><Relationship Id="rId4" Type="http://schemas.openxmlformats.org/officeDocument/2006/relationships/image" Target="../media/image43.gif"/><Relationship Id="rId5" Type="http://schemas.openxmlformats.org/officeDocument/2006/relationships/image" Target="../media/image44.gif"/><Relationship Id="rId6" Type="http://schemas.openxmlformats.org/officeDocument/2006/relationships/image" Target="../media/image45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1197000"/>
            <a:ext cx="525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DUNAREA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UMERELOR NATURAL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43280" y="2924280"/>
            <a:ext cx="3417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LA 0 LA 1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156240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4000" y="3284640"/>
            <a:ext cx="2419200" cy="85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596360" y="907920"/>
            <a:ext cx="714240" cy="1009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308720" y="2852640"/>
            <a:ext cx="1067040" cy="873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164360" y="5445000"/>
            <a:ext cx="1504800" cy="1162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796000" y="3860640"/>
            <a:ext cx="809640" cy="1000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24000" y="5589720"/>
            <a:ext cx="1339560" cy="101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5508720" y="5589720"/>
            <a:ext cx="1144440" cy="998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395280" y="4365720"/>
            <a:ext cx="847800" cy="1238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492360" y="3573360"/>
            <a:ext cx="952560" cy="10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3705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ÎMI PARE RĂU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4000" y="2133720"/>
            <a:ext cx="407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MAI ÎNCEARCĂ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187280" y="2565360"/>
            <a:ext cx="2314800" cy="2009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6588000" y="4437000"/>
            <a:ext cx="1400400" cy="1895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211640" y="3789360"/>
            <a:ext cx="1547640" cy="17146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9" action="ppaction://hlinksldjump"/>
          </p:cNvPr>
          <p:cNvSpPr/>
          <p:nvPr/>
        </p:nvSpPr>
        <p:spPr>
          <a:xfrm>
            <a:off x="7596360" y="260280"/>
            <a:ext cx="792000" cy="792360"/>
          </a:xfrm>
          <a:custGeom>
            <a:avLst/>
            <a:gdLst>
              <a:gd name="textAreaLeft" fmla="*/ 51120 w 792000"/>
              <a:gd name="textAreaRight" fmla="*/ 740880 w 792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7301" y="10805"/>
                </a:moveTo>
                <a:lnTo>
                  <a:pt x="17806" y="3798"/>
                </a:lnTo>
                <a:lnTo>
                  <a:pt x="17806" y="17811"/>
                </a:lnTo>
                <a:close/>
              </a:path>
              <a:path fill="darken" w="21600" h="21610">
                <a:moveTo>
                  <a:pt x="3794" y="3798"/>
                </a:moveTo>
                <a:lnTo>
                  <a:pt x="5456" y="3798"/>
                </a:lnTo>
                <a:lnTo>
                  <a:pt x="5456" y="17811"/>
                </a:lnTo>
                <a:lnTo>
                  <a:pt x="3794" y="17811"/>
                </a:lnTo>
                <a:close/>
              </a:path>
            </a:pathLst>
          </a:custGeom>
          <a:solidFill>
            <a:srgbClr val="cc66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193080" cy="4643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692360" y="2205000"/>
            <a:ext cx="2035080" cy="9302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rot="1176600">
            <a:off x="3995280" y="4797360"/>
            <a:ext cx="1368360" cy="903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250920" y="476280"/>
            <a:ext cx="1584360" cy="125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268360" y="4005360"/>
            <a:ext cx="912960" cy="93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3780000" y="3429000"/>
            <a:ext cx="1015920" cy="819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580000" y="2060640"/>
            <a:ext cx="857160" cy="904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250920" y="5084640"/>
            <a:ext cx="1271520" cy="1513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>
            <a:off x="5651640" y="5300640"/>
            <a:ext cx="1584360" cy="723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780000" y="6922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00720" y="6922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219640" y="6922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724360" y="836640"/>
            <a:ext cx="304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5" name="">
            <a:hlinkClick r:id="rId19" action="ppaction://hlinksldjump"/>
          </p:cNvPr>
          <p:cNvSpPr/>
          <p:nvPr/>
        </p:nvSpPr>
        <p:spPr>
          <a:xfrm>
            <a:off x="6300720" y="549360"/>
            <a:ext cx="792360" cy="79056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1649" h="21600">
                <a:moveTo>
                  <a:pt x="0" y="0"/>
                </a:moveTo>
                <a:lnTo>
                  <a:pt x="21649" y="0"/>
                </a:lnTo>
                <a:lnTo>
                  <a:pt x="21649" y="21600"/>
                </a:lnTo>
                <a:lnTo>
                  <a:pt x="0" y="21600"/>
                </a:lnTo>
                <a:close/>
              </a:path>
              <a:path fill="lightenLess" w="21649" h="21600">
                <a:moveTo>
                  <a:pt x="0" y="0"/>
                </a:moveTo>
                <a:lnTo>
                  <a:pt x="21649" y="0"/>
                </a:lnTo>
                <a:lnTo>
                  <a:pt x="20249" y="1400"/>
                </a:lnTo>
                <a:lnTo>
                  <a:pt x="1400" y="1400"/>
                </a:lnTo>
                <a:close/>
              </a:path>
              <a:path fill="darken" w="21649" h="21600">
                <a:moveTo>
                  <a:pt x="21649" y="0"/>
                </a:moveTo>
                <a:lnTo>
                  <a:pt x="21649" y="21600"/>
                </a:lnTo>
                <a:lnTo>
                  <a:pt x="20249" y="20200"/>
                </a:lnTo>
                <a:lnTo>
                  <a:pt x="20249" y="1400"/>
                </a:lnTo>
                <a:close/>
              </a:path>
              <a:path fill="darkenLess" w="21649" h="21600">
                <a:moveTo>
                  <a:pt x="21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9" y="20200"/>
                </a:lnTo>
                <a:close/>
              </a:path>
              <a:path fill="lighten" w="21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20" action="ppaction://hlinksldjump"/>
          </p:cNvPr>
          <p:cNvSpPr/>
          <p:nvPr/>
        </p:nvSpPr>
        <p:spPr>
          <a:xfrm>
            <a:off x="7524720" y="549360"/>
            <a:ext cx="792360" cy="792000"/>
          </a:xfrm>
          <a:custGeom>
            <a:avLst/>
            <a:gdLst>
              <a:gd name="textAreaLeft" fmla="*/ 51120 w 792360"/>
              <a:gd name="textAreaRight" fmla="*/ 741240 w 792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372360" y="692280"/>
            <a:ext cx="576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740720" y="692280"/>
            <a:ext cx="2966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79640" y="981000"/>
            <a:ext cx="273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XCELENT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67280" y="2708280"/>
            <a:ext cx="3209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I FOST ATENT 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4932360" y="476280"/>
            <a:ext cx="1871640" cy="176544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rId5" action="ppaction://hlinksldjump"/>
          </p:cNvPr>
          <p:cNvSpPr/>
          <p:nvPr/>
        </p:nvSpPr>
        <p:spPr>
          <a:xfrm>
            <a:off x="7380360" y="5445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ff00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3132000" y="4365720"/>
            <a:ext cx="2303640" cy="195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7"/>
          <a:stretch/>
        </p:blipFill>
        <p:spPr>
          <a:xfrm rot="1410000">
            <a:off x="6372360" y="3789360"/>
            <a:ext cx="1512720" cy="1135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8"/>
          <a:stretch/>
        </p:blipFill>
        <p:spPr>
          <a:xfrm>
            <a:off x="1042920" y="2492280"/>
            <a:ext cx="160812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32000" y="1557360"/>
            <a:ext cx="2905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50000">
                      <a:srgbClr val="ffffff"/>
                    </a:gs>
                    <a:gs pos="100000">
                      <a:srgbClr val="ff9966"/>
                    </a:gs>
                  </a:gsLst>
                  <a:lin ang="13500000"/>
                </a:gradFill>
                <a:latin typeface="Arial Black"/>
              </a:rPr>
              <a:t>AI GREŞI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50000">
                    <a:srgbClr val="ffffff"/>
                  </a:gs>
                  <a:gs pos="100000">
                    <a:srgbClr val="ff9966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56000" y="981000"/>
            <a:ext cx="4103640" cy="9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66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 Black"/>
              </a:rPr>
              <a:t>MAI ÎNCEARCĂ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58" name=""/>
          <p:cNvSpPr/>
          <p:nvPr/>
        </p:nvSpPr>
        <p:spPr>
          <a:xfrm>
            <a:off x="7524720" y="5516640"/>
            <a:ext cx="792360" cy="64908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26365" h="21600">
                <a:moveTo>
                  <a:pt x="0" y="0"/>
                </a:moveTo>
                <a:lnTo>
                  <a:pt x="26365" y="0"/>
                </a:lnTo>
                <a:lnTo>
                  <a:pt x="26365" y="21600"/>
                </a:lnTo>
                <a:lnTo>
                  <a:pt x="0" y="21600"/>
                </a:lnTo>
                <a:close/>
              </a:path>
              <a:path fill="lightenLess" w="26365" h="21600">
                <a:moveTo>
                  <a:pt x="0" y="0"/>
                </a:moveTo>
                <a:lnTo>
                  <a:pt x="26365" y="0"/>
                </a:lnTo>
                <a:lnTo>
                  <a:pt x="24965" y="1400"/>
                </a:lnTo>
                <a:lnTo>
                  <a:pt x="1400" y="1400"/>
                </a:lnTo>
                <a:close/>
              </a:path>
              <a:path fill="darken" w="26365" h="21600">
                <a:moveTo>
                  <a:pt x="26365" y="0"/>
                </a:moveTo>
                <a:lnTo>
                  <a:pt x="26365" y="21600"/>
                </a:lnTo>
                <a:lnTo>
                  <a:pt x="24965" y="20200"/>
                </a:lnTo>
                <a:lnTo>
                  <a:pt x="24965" y="1400"/>
                </a:lnTo>
                <a:close/>
              </a:path>
              <a:path fill="darkenLess" w="26365" h="21600">
                <a:moveTo>
                  <a:pt x="2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65" y="20200"/>
                </a:lnTo>
                <a:close/>
              </a:path>
              <a:path fill="lighten" w="2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65" h="21600">
                <a:moveTo>
                  <a:pt x="9684" y="10800"/>
                </a:moveTo>
                <a:lnTo>
                  <a:pt x="20189" y="3794"/>
                </a:lnTo>
                <a:lnTo>
                  <a:pt x="20189" y="17806"/>
                </a:lnTo>
                <a:close/>
              </a:path>
              <a:path fill="darken" w="26365" h="21600">
                <a:moveTo>
                  <a:pt x="6176" y="3794"/>
                </a:moveTo>
                <a:lnTo>
                  <a:pt x="7839" y="3794"/>
                </a:lnTo>
                <a:lnTo>
                  <a:pt x="7839" y="17806"/>
                </a:lnTo>
                <a:lnTo>
                  <a:pt x="6176" y="17806"/>
                </a:lnTo>
                <a:close/>
              </a:path>
            </a:pathLst>
          </a:custGeom>
          <a:gradFill rotWithShape="0">
            <a:gsLst>
              <a:gs pos="0">
                <a:srgbClr val="ff9966"/>
              </a:gs>
              <a:gs pos="100000">
                <a:srgbClr val="ffcc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704880" cy="1238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1725840" cy="25941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156360" y="2349360"/>
            <a:ext cx="1655640" cy="1406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95640" y="2852640"/>
            <a:ext cx="1476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6624720" cy="4967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042920" y="2781360"/>
            <a:ext cx="1081080" cy="1000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6372360" y="2852640"/>
            <a:ext cx="906480" cy="1152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2771640" y="4724280"/>
            <a:ext cx="1584360" cy="1727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003640" y="3068640"/>
            <a:ext cx="1089360" cy="1368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7"/>
          <a:stretch/>
        </p:blipFill>
        <p:spPr>
          <a:xfrm>
            <a:off x="1042920" y="4869000"/>
            <a:ext cx="1584360" cy="14652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2411280" y="3357720"/>
            <a:ext cx="1368720" cy="1266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9"/>
          <a:stretch/>
        </p:blipFill>
        <p:spPr>
          <a:xfrm>
            <a:off x="1042920" y="364500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0"/>
          <a:stretch/>
        </p:blipFill>
        <p:spPr>
          <a:xfrm>
            <a:off x="6227640" y="3789360"/>
            <a:ext cx="1144800" cy="1440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1"/>
          <a:stretch/>
        </p:blipFill>
        <p:spPr>
          <a:xfrm>
            <a:off x="5435640" y="4653000"/>
            <a:ext cx="1431720" cy="1800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268360" y="54936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47000"/>
                  </a:srgbClr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4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843280" y="549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47000"/>
                  </a:srgbClr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4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419640" y="549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47000"/>
                  </a:srgbClr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47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924360" y="692280"/>
            <a:ext cx="4316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46000"/>
                  </a:srgbClr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>
                  <a:alpha val="46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77" name="">
            <a:hlinkClick r:id="rId12" action="ppaction://hlinksldjump"/>
          </p:cNvPr>
          <p:cNvSpPr/>
          <p:nvPr/>
        </p:nvSpPr>
        <p:spPr>
          <a:xfrm>
            <a:off x="7667640" y="5589720"/>
            <a:ext cx="1081080" cy="792000"/>
          </a:xfrm>
          <a:custGeom>
            <a:avLst/>
            <a:gdLst>
              <a:gd name="textAreaLeft" fmla="*/ 51120 w 1081080"/>
              <a:gd name="textAreaRight" fmla="*/ 1029960 w 1081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80" h="21600">
                <a:moveTo>
                  <a:pt x="0" y="0"/>
                </a:moveTo>
                <a:lnTo>
                  <a:pt x="29480" y="0"/>
                </a:lnTo>
                <a:lnTo>
                  <a:pt x="29480" y="21600"/>
                </a:lnTo>
                <a:lnTo>
                  <a:pt x="0" y="21600"/>
                </a:lnTo>
                <a:close/>
              </a:path>
              <a:path fill="lightenLess" w="29480" h="21600">
                <a:moveTo>
                  <a:pt x="0" y="0"/>
                </a:moveTo>
                <a:lnTo>
                  <a:pt x="29480" y="0"/>
                </a:lnTo>
                <a:lnTo>
                  <a:pt x="28080" y="1400"/>
                </a:lnTo>
                <a:lnTo>
                  <a:pt x="1400" y="1400"/>
                </a:lnTo>
                <a:close/>
              </a:path>
              <a:path fill="darken" w="29480" h="21600">
                <a:moveTo>
                  <a:pt x="29480" y="0"/>
                </a:moveTo>
                <a:lnTo>
                  <a:pt x="29480" y="21600"/>
                </a:lnTo>
                <a:lnTo>
                  <a:pt x="28080" y="20200"/>
                </a:lnTo>
                <a:lnTo>
                  <a:pt x="28080" y="1400"/>
                </a:lnTo>
                <a:close/>
              </a:path>
              <a:path fill="darkenLess" w="29480" h="21600">
                <a:moveTo>
                  <a:pt x="294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80" y="20200"/>
                </a:lnTo>
                <a:close/>
              </a:path>
              <a:path fill="lighten" w="294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80" h="21600">
                <a:moveTo>
                  <a:pt x="7734" y="3794"/>
                </a:moveTo>
                <a:lnTo>
                  <a:pt x="21747" y="10800"/>
                </a:lnTo>
                <a:lnTo>
                  <a:pt x="7734" y="17806"/>
                </a:lnTo>
                <a:close/>
              </a:path>
            </a:pathLst>
          </a:custGeom>
          <a:gradFill rotWithShape="0">
            <a:gsLst>
              <a:gs pos="0">
                <a:srgbClr val="f1ade7"/>
              </a:gs>
              <a:gs pos="100000">
                <a:srgbClr val="6f4f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13"/>
          </p:cNvPr>
          <p:cNvSpPr/>
          <p:nvPr/>
        </p:nvSpPr>
        <p:spPr>
          <a:xfrm>
            <a:off x="4643280" y="476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</a:pathLst>
          </a:custGeom>
          <a:solidFill>
            <a:srgbClr val="cc99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14"/>
          </p:cNvPr>
          <p:cNvSpPr/>
          <p:nvPr/>
        </p:nvSpPr>
        <p:spPr>
          <a:xfrm>
            <a:off x="5796000" y="47628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12000" y="549360"/>
            <a:ext cx="29664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859280" y="549360"/>
            <a:ext cx="36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 rot="20716800">
            <a:off x="3132000" y="1341000"/>
            <a:ext cx="376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ARTE BINE 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516720" y="1700280"/>
            <a:ext cx="1800360" cy="1496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755640" y="620640"/>
            <a:ext cx="1265400" cy="2160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rId4" action="ppaction://hlinksldjump"/>
          </p:cNvPr>
          <p:cNvSpPr/>
          <p:nvPr/>
        </p:nvSpPr>
        <p:spPr>
          <a:xfrm>
            <a:off x="7812000" y="5373720"/>
            <a:ext cx="863640" cy="71928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5933" h="21600">
                <a:moveTo>
                  <a:pt x="0" y="0"/>
                </a:moveTo>
                <a:lnTo>
                  <a:pt x="25933" y="0"/>
                </a:lnTo>
                <a:lnTo>
                  <a:pt x="25933" y="21600"/>
                </a:lnTo>
                <a:lnTo>
                  <a:pt x="0" y="21600"/>
                </a:lnTo>
                <a:close/>
              </a:path>
              <a:path fill="lightenLess" w="25933" h="21600">
                <a:moveTo>
                  <a:pt x="0" y="0"/>
                </a:moveTo>
                <a:lnTo>
                  <a:pt x="25933" y="0"/>
                </a:lnTo>
                <a:lnTo>
                  <a:pt x="24533" y="1400"/>
                </a:lnTo>
                <a:lnTo>
                  <a:pt x="1400" y="1400"/>
                </a:lnTo>
                <a:close/>
              </a:path>
              <a:path fill="darken" w="25933" h="21600">
                <a:moveTo>
                  <a:pt x="25933" y="0"/>
                </a:moveTo>
                <a:lnTo>
                  <a:pt x="25933" y="21600"/>
                </a:lnTo>
                <a:lnTo>
                  <a:pt x="24533" y="20200"/>
                </a:lnTo>
                <a:lnTo>
                  <a:pt x="24533" y="1400"/>
                </a:lnTo>
                <a:close/>
              </a:path>
              <a:path fill="darkenLess" w="25933" h="21600">
                <a:moveTo>
                  <a:pt x="25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33" y="20200"/>
                </a:lnTo>
                <a:close/>
              </a:path>
              <a:path fill="lighten" w="25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33" h="21600">
                <a:moveTo>
                  <a:pt x="5960" y="3794"/>
                </a:moveTo>
                <a:lnTo>
                  <a:pt x="19973" y="10800"/>
                </a:lnTo>
                <a:lnTo>
                  <a:pt x="5960" y="17806"/>
                </a:lnTo>
                <a:close/>
              </a:path>
            </a:pathLst>
          </a:custGeom>
          <a:solidFill>
            <a:srgbClr val="cc99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258920" y="3933720"/>
            <a:ext cx="2449440" cy="2051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4427640" y="2708280"/>
            <a:ext cx="1062000" cy="1747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5867280" y="4149720"/>
            <a:ext cx="17859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692360" y="981000"/>
            <a:ext cx="5976720" cy="18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>
                    <a:alpha val="51000"/>
                  </a:srgbClr>
                </a:solidFill>
                <a:latin typeface="Arial Black"/>
              </a:rPr>
              <a:t>NU AI CALCULAT CORECT !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>
                  <a:alpha val="5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 rot="591600">
            <a:off x="3059280" y="4221000"/>
            <a:ext cx="2238120" cy="731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1476360" y="2421000"/>
            <a:ext cx="116352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6372360" y="2852640"/>
            <a:ext cx="1612800" cy="1656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211640" y="1557360"/>
            <a:ext cx="1012680" cy="1655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380360" y="551664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8347" y="10800"/>
                </a:moveTo>
                <a:lnTo>
                  <a:pt x="18853" y="3794"/>
                </a:lnTo>
                <a:lnTo>
                  <a:pt x="18853" y="17806"/>
                </a:lnTo>
                <a:close/>
              </a:path>
              <a:path fill="darken" w="23692" h="21600">
                <a:moveTo>
                  <a:pt x="4840" y="3794"/>
                </a:moveTo>
                <a:lnTo>
                  <a:pt x="6502" y="3794"/>
                </a:lnTo>
                <a:lnTo>
                  <a:pt x="6502" y="17806"/>
                </a:lnTo>
                <a:lnTo>
                  <a:pt x="4840" y="17806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1538280" cy="1987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195640" y="2276640"/>
            <a:ext cx="1574640" cy="2065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826920" y="3573360"/>
            <a:ext cx="1390680" cy="2516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516720" y="3933720"/>
            <a:ext cx="1334880" cy="20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6443640" y="1197000"/>
            <a:ext cx="1889280" cy="2016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2771640" y="765000"/>
            <a:ext cx="1424160" cy="15843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8"/>
          <a:stretch/>
        </p:blipFill>
        <p:spPr>
          <a:xfrm>
            <a:off x="3419640" y="3573360"/>
            <a:ext cx="1836720" cy="2808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572000" y="62064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148360" y="62064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24360" y="62064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300720" y="765000"/>
            <a:ext cx="304920" cy="3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5003640" y="1700280"/>
            <a:ext cx="1032120" cy="186840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rId10"/>
          </p:cNvPr>
          <p:cNvSpPr/>
          <p:nvPr/>
        </p:nvSpPr>
        <p:spPr>
          <a:xfrm>
            <a:off x="6877080" y="54936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11"/>
          </p:cNvPr>
          <p:cNvSpPr/>
          <p:nvPr/>
        </p:nvSpPr>
        <p:spPr>
          <a:xfrm>
            <a:off x="7885080" y="54936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93080" y="620640"/>
            <a:ext cx="2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01080" y="620640"/>
            <a:ext cx="29664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971640" y="189000"/>
            <a:ext cx="547560" cy="547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0"/>
                            </p:stCondLst>
                            <p:childTnLst>
                              <p:par>
                                <p:cTn id="5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3000"/>
                            </p:stCondLst>
                            <p:childTnLst>
                              <p:par>
                                <p:cTn id="5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0"/>
                            </p:stCondLst>
                            <p:childTnLst>
                              <p:par>
                                <p:cTn id="5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 rot="20988600">
            <a:off x="2700360" y="1483920"/>
            <a:ext cx="5251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ff"/>
                    </a:gs>
                    <a:gs pos="100000">
                      <a:srgbClr val="f1ade7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I CALCULAT CORECT 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66ff"/>
                  </a:gs>
                  <a:gs pos="100000">
                    <a:srgbClr val="f1ade7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56000" y="2637000"/>
            <a:ext cx="396720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ELICITĂRI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4076640"/>
            <a:ext cx="1724040" cy="21700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042920" y="1700280"/>
            <a:ext cx="1040040" cy="18000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877080" y="2349360"/>
            <a:ext cx="1419120" cy="1676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812000" y="5734080"/>
            <a:ext cx="792360" cy="647640"/>
          </a:xfrm>
          <a:custGeom>
            <a:avLst/>
            <a:gdLst>
              <a:gd name="textAreaLeft" fmla="*/ 41760 w 792360"/>
              <a:gd name="textAreaRight" fmla="*/ 750600 w 792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24" h="21600">
                <a:moveTo>
                  <a:pt x="0" y="0"/>
                </a:moveTo>
                <a:lnTo>
                  <a:pt x="26424" y="0"/>
                </a:lnTo>
                <a:lnTo>
                  <a:pt x="26424" y="21600"/>
                </a:lnTo>
                <a:lnTo>
                  <a:pt x="0" y="21600"/>
                </a:lnTo>
                <a:close/>
              </a:path>
              <a:path fill="lightenLess" w="26424" h="21600">
                <a:moveTo>
                  <a:pt x="0" y="0"/>
                </a:moveTo>
                <a:lnTo>
                  <a:pt x="26424" y="0"/>
                </a:lnTo>
                <a:lnTo>
                  <a:pt x="25024" y="1400"/>
                </a:lnTo>
                <a:lnTo>
                  <a:pt x="1400" y="1400"/>
                </a:lnTo>
                <a:close/>
              </a:path>
              <a:path fill="darken" w="26424" h="21600">
                <a:moveTo>
                  <a:pt x="26424" y="0"/>
                </a:moveTo>
                <a:lnTo>
                  <a:pt x="26424" y="21600"/>
                </a:lnTo>
                <a:lnTo>
                  <a:pt x="25024" y="20200"/>
                </a:lnTo>
                <a:lnTo>
                  <a:pt x="25024" y="1400"/>
                </a:lnTo>
                <a:close/>
              </a:path>
              <a:path fill="darkenLess" w="26424" h="21600">
                <a:moveTo>
                  <a:pt x="264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24" y="20200"/>
                </a:lnTo>
                <a:close/>
              </a:path>
              <a:path fill="lighten" w="264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24" h="21600">
                <a:moveTo>
                  <a:pt x="9713" y="10800"/>
                </a:moveTo>
                <a:lnTo>
                  <a:pt x="20218" y="3794"/>
                </a:lnTo>
                <a:lnTo>
                  <a:pt x="20218" y="17806"/>
                </a:lnTo>
                <a:close/>
              </a:path>
              <a:path fill="darken" w="26424" h="21600">
                <a:moveTo>
                  <a:pt x="6206" y="3794"/>
                </a:moveTo>
                <a:lnTo>
                  <a:pt x="7868" y="3794"/>
                </a:lnTo>
                <a:lnTo>
                  <a:pt x="7868" y="17806"/>
                </a:lnTo>
                <a:lnTo>
                  <a:pt x="6206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451640" y="5300640"/>
            <a:ext cx="865440" cy="792360"/>
          </a:xfrm>
          <a:custGeom>
            <a:avLst/>
            <a:gdLst>
              <a:gd name="textAreaLeft" fmla="*/ 51120 w 865440"/>
              <a:gd name="textAreaRight" fmla="*/ 814320 w 8654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3591" h="21600">
                <a:moveTo>
                  <a:pt x="0" y="0"/>
                </a:moveTo>
                <a:lnTo>
                  <a:pt x="23591" y="0"/>
                </a:lnTo>
                <a:lnTo>
                  <a:pt x="23591" y="21600"/>
                </a:lnTo>
                <a:lnTo>
                  <a:pt x="0" y="21600"/>
                </a:lnTo>
                <a:close/>
              </a:path>
              <a:path fill="lightenLess" w="23591" h="21600">
                <a:moveTo>
                  <a:pt x="0" y="0"/>
                </a:moveTo>
                <a:lnTo>
                  <a:pt x="23591" y="0"/>
                </a:lnTo>
                <a:lnTo>
                  <a:pt x="22191" y="1400"/>
                </a:lnTo>
                <a:lnTo>
                  <a:pt x="1400" y="1400"/>
                </a:lnTo>
                <a:close/>
              </a:path>
              <a:path fill="darken" w="23591" h="21600">
                <a:moveTo>
                  <a:pt x="23591" y="0"/>
                </a:moveTo>
                <a:lnTo>
                  <a:pt x="23591" y="21600"/>
                </a:lnTo>
                <a:lnTo>
                  <a:pt x="22191" y="20200"/>
                </a:lnTo>
                <a:lnTo>
                  <a:pt x="22191" y="1400"/>
                </a:lnTo>
                <a:close/>
              </a:path>
              <a:path fill="darkenLess" w="23591" h="21600">
                <a:moveTo>
                  <a:pt x="2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1" y="20200"/>
                </a:lnTo>
                <a:close/>
              </a:path>
              <a:path fill="lighten" w="2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1" h="21600">
                <a:moveTo>
                  <a:pt x="8297" y="10800"/>
                </a:moveTo>
                <a:lnTo>
                  <a:pt x="18802" y="3794"/>
                </a:lnTo>
                <a:lnTo>
                  <a:pt x="18802" y="17806"/>
                </a:lnTo>
                <a:close/>
              </a:path>
              <a:path fill="darken" w="23591" h="21600">
                <a:moveTo>
                  <a:pt x="4789" y="3794"/>
                </a:moveTo>
                <a:lnTo>
                  <a:pt x="6452" y="3794"/>
                </a:lnTo>
                <a:lnTo>
                  <a:pt x="6452" y="17806"/>
                </a:lnTo>
                <a:lnTo>
                  <a:pt x="47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411280" y="2637000"/>
            <a:ext cx="44006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Times New Roman"/>
              </a:rPr>
              <a:t>MAI ÎNCEARCĂ 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Times New Roman"/>
              <a:ea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284720" y="1268280"/>
            <a:ext cx="804960" cy="15130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7308720" y="2133720"/>
            <a:ext cx="1074960" cy="1726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3995640" y="4076640"/>
            <a:ext cx="1728720" cy="155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1042920" y="2205000"/>
            <a:ext cx="952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7848720" cy="480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916360" y="620640"/>
            <a:ext cx="333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708360" y="620640"/>
            <a:ext cx="333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+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27640" y="620640"/>
            <a:ext cx="33336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3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76720" y="836640"/>
            <a:ext cx="3589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=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116000" y="1413000"/>
            <a:ext cx="2808360" cy="89856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rId4" action="ppaction://hlinksldjump"/>
          </p:cNvPr>
          <p:cNvSpPr/>
          <p:nvPr/>
        </p:nvSpPr>
        <p:spPr>
          <a:xfrm>
            <a:off x="5580000" y="260280"/>
            <a:ext cx="576360" cy="57636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5580000" y="907920"/>
            <a:ext cx="576360" cy="5050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4646" h="21600">
                <a:moveTo>
                  <a:pt x="0" y="0"/>
                </a:moveTo>
                <a:lnTo>
                  <a:pt x="24646" y="0"/>
                </a:lnTo>
                <a:lnTo>
                  <a:pt x="24646" y="21600"/>
                </a:lnTo>
                <a:lnTo>
                  <a:pt x="0" y="21600"/>
                </a:lnTo>
                <a:close/>
              </a:path>
              <a:path fill="lightenLess" w="24646" h="21600">
                <a:moveTo>
                  <a:pt x="0" y="0"/>
                </a:moveTo>
                <a:lnTo>
                  <a:pt x="24646" y="0"/>
                </a:lnTo>
                <a:lnTo>
                  <a:pt x="23246" y="1400"/>
                </a:lnTo>
                <a:lnTo>
                  <a:pt x="1400" y="1400"/>
                </a:lnTo>
                <a:close/>
              </a:path>
              <a:path fill="darken" w="24646" h="21600">
                <a:moveTo>
                  <a:pt x="24646" y="0"/>
                </a:moveTo>
                <a:lnTo>
                  <a:pt x="24646" y="21600"/>
                </a:lnTo>
                <a:lnTo>
                  <a:pt x="23246" y="20200"/>
                </a:lnTo>
                <a:lnTo>
                  <a:pt x="23246" y="1400"/>
                </a:lnTo>
                <a:close/>
              </a:path>
              <a:path fill="darkenLess" w="24646" h="21600">
                <a:moveTo>
                  <a:pt x="2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6" y="20200"/>
                </a:lnTo>
                <a:close/>
              </a:path>
              <a:path fill="lighten" w="2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724360" y="333360"/>
            <a:ext cx="22392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796000" y="981000"/>
            <a:ext cx="22392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6012000" y="3357720"/>
            <a:ext cx="2089080" cy="86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5364000" y="4941720"/>
            <a:ext cx="1943280" cy="80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5003640" y="2565360"/>
            <a:ext cx="1435320" cy="5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476360" y="981000"/>
            <a:ext cx="3816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RAV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195640" y="2924280"/>
            <a:ext cx="34574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I REUŞIT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7236000" y="5445000"/>
            <a:ext cx="1152360" cy="935280"/>
          </a:xfrm>
          <a:custGeom>
            <a:avLst/>
            <a:gdLst>
              <a:gd name="textAreaLeft" fmla="*/ 60480 w 1152360"/>
              <a:gd name="textAreaRight" fmla="*/ 1091880 w 115236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26611" h="21600">
                <a:moveTo>
                  <a:pt x="0" y="0"/>
                </a:moveTo>
                <a:lnTo>
                  <a:pt x="26611" y="0"/>
                </a:lnTo>
                <a:lnTo>
                  <a:pt x="26611" y="21600"/>
                </a:lnTo>
                <a:lnTo>
                  <a:pt x="0" y="21600"/>
                </a:lnTo>
                <a:close/>
              </a:path>
              <a:path fill="lightenLess" w="26611" h="21600">
                <a:moveTo>
                  <a:pt x="0" y="0"/>
                </a:moveTo>
                <a:lnTo>
                  <a:pt x="26611" y="0"/>
                </a:lnTo>
                <a:lnTo>
                  <a:pt x="25211" y="1400"/>
                </a:lnTo>
                <a:lnTo>
                  <a:pt x="1400" y="1400"/>
                </a:lnTo>
                <a:close/>
              </a:path>
              <a:path fill="darken" w="26611" h="21600">
                <a:moveTo>
                  <a:pt x="26611" y="0"/>
                </a:moveTo>
                <a:lnTo>
                  <a:pt x="26611" y="21600"/>
                </a:lnTo>
                <a:lnTo>
                  <a:pt x="25211" y="20200"/>
                </a:lnTo>
                <a:lnTo>
                  <a:pt x="25211" y="1400"/>
                </a:lnTo>
                <a:close/>
              </a:path>
              <a:path fill="darkenLess" w="26611" h="21600">
                <a:moveTo>
                  <a:pt x="26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11" y="20200"/>
                </a:lnTo>
                <a:close/>
              </a:path>
              <a:path fill="lighten" w="26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11" h="21600">
                <a:moveTo>
                  <a:pt x="6299" y="3794"/>
                </a:moveTo>
                <a:lnTo>
                  <a:pt x="20312" y="10800"/>
                </a:lnTo>
                <a:lnTo>
                  <a:pt x="6299" y="17806"/>
                </a:lnTo>
                <a:close/>
              </a:path>
            </a:pathLst>
          </a:custGeom>
          <a:blipFill rotWithShape="0">
            <a:blip r:embed="rId3">
              <a:alphaModFix amt="9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755640" y="3357720"/>
            <a:ext cx="150012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15606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5280" y="1125360"/>
            <a:ext cx="2904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50000">
                      <a:srgbClr val="ffffff"/>
                    </a:gs>
                    <a:gs pos="100000">
                      <a:srgbClr val="ff9966"/>
                    </a:gs>
                  </a:gsLst>
                  <a:lin ang="13500000"/>
                </a:gradFill>
                <a:latin typeface="Arial Black"/>
              </a:rPr>
              <a:t>AI GREŞI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50000">
                    <a:srgbClr val="ffffff"/>
                  </a:gs>
                  <a:gs pos="100000">
                    <a:srgbClr val="ff9966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59280" y="2565360"/>
            <a:ext cx="4076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66"/>
                    </a:gs>
                    <a:gs pos="100000">
                      <a:srgbClr val="ffcc66"/>
                    </a:gs>
                  </a:gsLst>
                  <a:lin ang="8100000"/>
                </a:gradFill>
                <a:latin typeface="Arial Black"/>
              </a:rPr>
              <a:t>MAI ÎNCEARCĂ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66"/>
                  </a:gs>
                  <a:gs pos="100000">
                    <a:srgbClr val="ffcc66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258920" y="2637000"/>
            <a:ext cx="1555560" cy="1866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435640" y="3429000"/>
            <a:ext cx="1797120" cy="215568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4" action="ppaction://hlinksldjump"/>
          </p:cNvPr>
          <p:cNvSpPr/>
          <p:nvPr/>
        </p:nvSpPr>
        <p:spPr>
          <a:xfrm>
            <a:off x="7380360" y="5445000"/>
            <a:ext cx="720720" cy="64800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4023" h="21600">
                <a:moveTo>
                  <a:pt x="0" y="0"/>
                </a:moveTo>
                <a:lnTo>
                  <a:pt x="24023" y="0"/>
                </a:lnTo>
                <a:lnTo>
                  <a:pt x="24023" y="21600"/>
                </a:lnTo>
                <a:lnTo>
                  <a:pt x="0" y="21600"/>
                </a:lnTo>
                <a:close/>
              </a:path>
              <a:path fill="lightenLess" w="24023" h="21600">
                <a:moveTo>
                  <a:pt x="0" y="0"/>
                </a:moveTo>
                <a:lnTo>
                  <a:pt x="24023" y="0"/>
                </a:lnTo>
                <a:lnTo>
                  <a:pt x="22623" y="1400"/>
                </a:lnTo>
                <a:lnTo>
                  <a:pt x="1400" y="1400"/>
                </a:lnTo>
                <a:close/>
              </a:path>
              <a:path fill="darken" w="24023" h="21600">
                <a:moveTo>
                  <a:pt x="24023" y="0"/>
                </a:moveTo>
                <a:lnTo>
                  <a:pt x="24023" y="21600"/>
                </a:lnTo>
                <a:lnTo>
                  <a:pt x="22623" y="20200"/>
                </a:lnTo>
                <a:lnTo>
                  <a:pt x="22623" y="1400"/>
                </a:lnTo>
                <a:close/>
              </a:path>
              <a:path fill="darkenLess" w="24023" h="21600">
                <a:moveTo>
                  <a:pt x="240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23" y="20200"/>
                </a:lnTo>
                <a:close/>
              </a:path>
              <a:path fill="lighten" w="240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23" h="21600">
                <a:moveTo>
                  <a:pt x="8512" y="10800"/>
                </a:moveTo>
                <a:lnTo>
                  <a:pt x="19018" y="3794"/>
                </a:lnTo>
                <a:lnTo>
                  <a:pt x="19018" y="17806"/>
                </a:lnTo>
                <a:close/>
              </a:path>
              <a:path fill="darken" w="24023" h="21600">
                <a:moveTo>
                  <a:pt x="5005" y="3794"/>
                </a:moveTo>
                <a:lnTo>
                  <a:pt x="6667" y="3794"/>
                </a:lnTo>
                <a:lnTo>
                  <a:pt x="6667" y="17806"/>
                </a:lnTo>
                <a:lnTo>
                  <a:pt x="5005" y="1780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6624720" cy="4989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 rot="4251600">
            <a:off x="1504440" y="1600200"/>
            <a:ext cx="1297080" cy="1211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187280" y="3284640"/>
            <a:ext cx="1667160" cy="132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843280" y="4869000"/>
            <a:ext cx="107784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084720" y="1268280"/>
            <a:ext cx="1978200" cy="1978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 rot="2616000">
            <a:off x="3492000" y="2923920"/>
            <a:ext cx="1197000" cy="1197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4356000" y="4653000"/>
            <a:ext cx="1268640" cy="1268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564000" y="40464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140360" y="40464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88000" y="40464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64000" y="549360"/>
            <a:ext cx="304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88" name="">
            <a:hlinkClick r:id="rId9" action="ppaction://hlinksldjump"/>
          </p:cNvPr>
          <p:cNvSpPr/>
          <p:nvPr/>
        </p:nvSpPr>
        <p:spPr>
          <a:xfrm>
            <a:off x="5867280" y="11592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0" action="ppaction://hlinksldjump"/>
          </p:cNvPr>
          <p:cNvSpPr/>
          <p:nvPr/>
        </p:nvSpPr>
        <p:spPr>
          <a:xfrm>
            <a:off x="5867280" y="69228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cc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12000" y="765000"/>
            <a:ext cx="296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12000" y="18900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11280" y="692280"/>
            <a:ext cx="381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42920" y="2133720"/>
            <a:ext cx="37465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I NUMĂRAT BINE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380360" y="566100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700360" y="3716280"/>
            <a:ext cx="1616040" cy="1940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5651640" y="2205000"/>
            <a:ext cx="16812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32000" y="692280"/>
            <a:ext cx="285444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ffff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INCOREC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ffff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 rot="744000">
            <a:off x="1834920" y="1699920"/>
            <a:ext cx="4695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50000">
                      <a:srgbClr val="ffffff"/>
                    </a:gs>
                    <a:gs pos="100000">
                      <a:srgbClr val="66ffff"/>
                    </a:gs>
                  </a:gsLst>
                  <a:lin ang="7356000"/>
                </a:gradFill>
                <a:latin typeface="Arial Black"/>
              </a:rPr>
              <a:t>REIA CALCULELE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50000">
                    <a:srgbClr val="ffffff"/>
                  </a:gs>
                  <a:gs pos="100000">
                    <a:srgbClr val="66ffff"/>
                  </a:gs>
                </a:gsLst>
                <a:lin ang="7356000"/>
              </a:gra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050920" y="2852640"/>
            <a:ext cx="1681200" cy="2016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932360" y="3933720"/>
            <a:ext cx="1736640" cy="20844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4" action="ppaction://hlinksldjump"/>
          </p:cNvPr>
          <p:cNvSpPr/>
          <p:nvPr/>
        </p:nvSpPr>
        <p:spPr>
          <a:xfrm>
            <a:off x="7596360" y="5373720"/>
            <a:ext cx="720720" cy="7207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rcRect l="0" t="0" r="0" b="6470"/>
          <a:stretch/>
        </p:blipFill>
        <p:spPr>
          <a:xfrm>
            <a:off x="1042920" y="1341360"/>
            <a:ext cx="6697800" cy="518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19640" y="4005360"/>
            <a:ext cx="86688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012000" y="5357880"/>
            <a:ext cx="1255680" cy="1055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908000" y="508464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4788000" y="3068640"/>
            <a:ext cx="1441440" cy="993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6227640" y="4365720"/>
            <a:ext cx="1181160" cy="84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 rot="1053000">
            <a:off x="2410920" y="328464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 rot="20720400">
            <a:off x="1834920" y="4076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2268360" y="1125360"/>
            <a:ext cx="843120" cy="129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6659640" y="1341360"/>
            <a:ext cx="546120" cy="519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203640" y="33336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51280" y="40464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00720" y="404640"/>
            <a:ext cx="30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76720" y="549360"/>
            <a:ext cx="30492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16" name="">
            <a:hlinkClick r:id="rId12" action="ppaction://hlinksldjump"/>
          </p:cNvPr>
          <p:cNvSpPr/>
          <p:nvPr/>
        </p:nvSpPr>
        <p:spPr>
          <a:xfrm>
            <a:off x="5580000" y="40464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rId13" action="ppaction://hlinksldjump"/>
          </p:cNvPr>
          <p:cNvSpPr/>
          <p:nvPr/>
        </p:nvSpPr>
        <p:spPr>
          <a:xfrm>
            <a:off x="6516720" y="40464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732720" y="47628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96000" y="476280"/>
            <a:ext cx="28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042920" y="98100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ELICITĂRI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95640" y="2924280"/>
            <a:ext cx="34574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ESTE  CORECT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380360" y="566100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32000" y="4292640"/>
            <a:ext cx="1920960" cy="194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372360" y="2276640"/>
            <a:ext cx="1366560" cy="1136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826920" y="2708280"/>
            <a:ext cx="1266840" cy="158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6:55:52Z</dcterms:created>
  <dc:creator>Aurors</dc:creator>
  <dc:description/>
  <dc:language>en-US</dc:language>
  <cp:lastModifiedBy>IULIA</cp:lastModifiedBy>
  <dcterms:modified xsi:type="dcterms:W3CDTF">2009-11-17T13:12:38Z</dcterms:modified>
  <cp:revision>11</cp:revision>
  <dc:subject/>
  <dc:title>Slide 1</dc:title>
</cp:coreProperties>
</file>